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D51-33B4-4EC3-9A04-89AA3BF8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0D6-8182-4539-B517-2DFCF547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CA5-2FFC-4C77-B87E-A294D7EC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289-6C56-47DC-B022-C5496321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C3EF-646C-4A1F-8AE3-3DD12A2F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DC48-028A-4146-B052-EB9AB2A2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67DE-1456-4A80-907F-9B45F9E4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0AAC-D3D9-4362-B144-2DEA8CA2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E78B-DA7E-4E58-B895-6E1E6AF6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1155-4A37-4C6D-B013-D2EB8B0E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C314-EFA6-4218-8711-E86DF29E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183-9059-4243-8CC0-C0846FF8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55F5-C6B3-4F42-B560-D1FA2D99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2FE5-91D9-4352-92BA-C96133C8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A7B9-8CFD-474B-B5FB-992FF7E9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92A4-F812-4DC4-B629-C9EC7931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E1DA-45D6-4AF9-AE3C-0D909FA1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EBC-F1C8-4EBD-B052-0198B823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E15-E004-4D45-8E92-D5D14CC8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700-8025-4949-9599-E30F3944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4E9-AADC-43FD-914C-45DD1A2B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B79-DEE8-4933-9183-24D2B3CF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543-39C0-485B-8331-0C57288F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E58-6DF2-4C3A-8656-E07C0A96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01B8-F72B-46AD-97AF-0A09A68406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519F-B74C-423A-83DF-075CA483F6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rriam-webster.com/home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2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4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5080" y="2487240"/>
            <a:ext cx="7515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inorga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s and organic compound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2"/>
          </p:cNvPr>
          <p:cNvSpPr/>
          <p:nvPr/>
        </p:nvSpPr>
        <p:spPr>
          <a:xfrm>
            <a:off x="3962520" y="38098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3:11:52Z</dcterms:created>
  <dc:creator>PritchaJ</dc:creator>
  <dc:description/>
  <dc:language>en-US</dc:language>
  <cp:lastModifiedBy>PritchaJ</cp:lastModifiedBy>
  <dcterms:modified xsi:type="dcterms:W3CDTF">2011-06-01T13:12:33Z</dcterms:modified>
  <cp:revision>1</cp:revision>
  <dc:subject/>
  <dc:title>Slide 1</dc:title>
</cp:coreProperties>
</file>